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28F-67E1-4CB0-BFE4-7533D49B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B0C-D431-451A-A9C9-274CC0E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20C-5198-4883-993D-C21FC1A6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6DE-30C4-4347-9113-0889BD51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01F-3AC0-4886-A068-F847AD1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3E7-EC02-4DCB-8C5B-7F0F5C41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5F8-801E-4609-BD11-43E26366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4FB-408C-461E-9519-A77C7935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6C3-D9FC-41ED-A4BA-F40E89FB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A21-26A7-4032-8922-CE58AF7C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D4E-5F52-4987-8ED4-25B629F9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67F-D076-40DB-A316-EF12B541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F0B-890A-403E-8FA0-8029B86A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lotrop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n Schwoe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rland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Orlando"/>
              </a:rPr>
              <a:t>Allotrop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nt of a substance consisting of only one type of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er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</a:rPr>
              <a:t>Diam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d of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ost jewe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fullerenes, which are allotropes found in carbon and carbon base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arbon bonds make up diam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rare and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3352680" cy="2541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ood conductor of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st stable form of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n most likely be described as a black and so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toms within graphite are arranged in “shee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picture to the below is showing graphite. It has a black color and smooth texture. To the right of that is the graphite atoms in “shee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66880" y="4167360"/>
            <a:ext cx="274320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ere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raphite or dia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erene’s density is half that of aluminum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dozens of spherical arrangement of carbon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is a picture of a fullerene. It shows the dozens of carbon atoms in a spherical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3800520"/>
            <a:ext cx="30481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t relates to what we’ve studi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arrangement of atoms and density of materials as we have done in previous l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carbon, which is an element within the periodic table that we studied thoroughly. I.E. Our percentag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learned about the atom and all its components, which relates because all allotropes have different arrangements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monds- Mainly used in jewel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te- Used in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erenes- Used/found in all carbon bas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C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ce, Nigel, and Jim Hunt. “Allotropes.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cience Cor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s.uoguel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26 Feb. 2009 &lt;http://physics.uoguelph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stry in the Commun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2001. Ed. Henry Heikkinen. United States: Michelle Russel Julet, 198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Allotrope?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Is an Allotrop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segeek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2003-2009. 26 Feb. 2009 &lt;http://www.wisegeek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stronger: a diamond or graph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ne use of graph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Diamonds are used in most drills, when mining in the ground, due to their near indestructibi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0:06:24Z</dcterms:created>
  <dc:creator>Justin Schwoerer</dc:creator>
  <dc:description/>
  <dc:language>en-US</dc:language>
  <cp:lastModifiedBy>Justin Schwoerer</cp:lastModifiedBy>
  <dcterms:modified xsi:type="dcterms:W3CDTF">2009-02-26T23:31:48Z</dcterms:modified>
  <cp:revision>11</cp:revision>
  <dc:subject/>
  <dc:title>Allotropes </dc:title>
</cp:coreProperties>
</file>